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079-83BD-4BEC-A32C-FB3D37E9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D2D-1CC3-4F8B-97BE-C9ADD1E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390-228F-4673-AC07-2B683736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32E-F21C-4246-9BB8-2F95F097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A67-D2BE-43DF-B988-E9618C7D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68F-4D44-4043-A281-9B09C4C1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5A3-D79C-442A-AB49-0B92E97F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237-21AF-4AEB-93B2-763F45EA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9DD-4F6C-45DD-B10C-623BD008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B70-D100-4B86-8392-08AEDF13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779-A6C6-44DF-87DD-C2E273BB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8C7-83F9-4A64-93FC-4A6A18DD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B1F9-3321-432B-9E0C-7651BDDB5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FUTU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guel y yo asist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istire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 cab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rcelo quer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r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d. ven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n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isa dec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rmela y yo t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e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CONDITI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rique bai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il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rta y Felipe hab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bl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ependiente ven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nder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 compr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 po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n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becca y yo s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u mochila c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 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 h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 y yo ha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rí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ds. dec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rí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uadalupe y Jorge compr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renzo y yo patin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n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s amigos t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drí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 sal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l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 ha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icardo t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 h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br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 can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ntare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osotros s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é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ds. limpi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mpi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 po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dr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6:09:37Z</dcterms:created>
  <dc:creator>jbarber</dc:creator>
  <dc:description/>
  <dc:language>en-US</dc:language>
  <cp:lastModifiedBy>Jessica Kaplan</cp:lastModifiedBy>
  <dcterms:modified xsi:type="dcterms:W3CDTF">2012-05-01T18:01:25Z</dcterms:modified>
  <cp:revision>22</cp:revision>
  <dc:subject/>
  <dc:title>Slide 1</dc:title>
</cp:coreProperties>
</file>